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8F6-EE19-4BA4-8A14-0C2C9A26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947-8058-4254-B477-E15007CC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2A8-780E-4082-8FFE-18ADB416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AE2-6D27-47FF-9134-677856F7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4AD-683C-496E-A889-F3C3EA3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A4E-1BB2-4066-A119-FB26E5D6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1D3-C1F4-401D-8182-FE72198A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B85-96FB-47ED-8CB0-D10A4E6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517-0DDB-4AF8-A763-5C586D0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B12-86CB-4A46-90A3-48B3930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3D6-1BE1-4E0D-9450-C87DF40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301-8CE6-4750-85F9-096DB79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107-5E0B-4DA0-B90D-53C2C316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and 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article Theory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ter is made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rticles have spaces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are always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les in a substance are attracted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ids, Liquids and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toms, Elements, Molecules and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91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ll Matter is made of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assifying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52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5:39Z</dcterms:created>
  <dc:creator>User</dc:creator>
  <dc:description/>
  <dc:language>en-US</dc:language>
  <cp:lastModifiedBy>User</cp:lastModifiedBy>
  <dcterms:modified xsi:type="dcterms:W3CDTF">2010-09-14T12:27:09Z</dcterms:modified>
  <cp:revision>5</cp:revision>
  <dc:subject/>
  <dc:title>Classification of Matter</dc:title>
</cp:coreProperties>
</file>